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1BF-ED77-4F6B-A27E-20594B69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FB4-F32E-43DC-9C2F-2D242B0A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1B6-7194-4D91-9DA5-1D097602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09E-8A33-4851-B4C7-1CFC5AFB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54D-2F32-4FCB-B022-3188E262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75B-B5C2-4616-8CE0-5A5FD2CF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332-83D6-4149-ADED-A1B389A4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5F6-8FC0-4192-9E26-BE66848E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614-2573-4D03-8117-0D6EABC2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D34-4B3D-4EA9-AE23-3EB51AAA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21C-D016-461E-92BA-EEAD48BD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215-16F0-419B-8BA8-2D9F0F12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hite.jpg"/>
          <p:cNvPicPr/>
          <p:nvPr/>
        </p:nvPicPr>
        <p:blipFill>
          <a:blip r:embed="rId2"/>
          <a:stretch/>
        </p:blipFill>
        <p:spPr>
          <a:xfrm>
            <a:off x="-201600" y="0"/>
            <a:ext cx="9497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7FC32-D38D-4258-BA9D-4FBF380FEF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white.jpg"/>
          <p:cNvPicPr/>
          <p:nvPr/>
        </p:nvPicPr>
        <p:blipFill>
          <a:blip r:embed="rId2"/>
          <a:stretch/>
        </p:blipFill>
        <p:spPr>
          <a:xfrm>
            <a:off x="-201600" y="0"/>
            <a:ext cx="9497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National Broadband Network (NBN)</a:t>
            </a:r>
            <a:br>
              <a:rPr sz="3200"/>
            </a:b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E-Lear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7640" y="1628280"/>
            <a:ext cx="8534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applicants must demonstrate that their project budget includes a co-investment contribution*.  Contributions can includ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Salaries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nabling technology used for E-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i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*The level of co-contribution that is offered will be taken into account by the selection panel in competitive assessment of project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Co-Investmen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Examples of possibl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19564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778480" y="33577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LEASE ADD SOME </a:t>
            </a:r>
            <a:r>
              <a:rPr b="0" lang="en-AU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The role of the ELCs and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553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motion of NBN activity and information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pport for project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What else – what will the TC be doing for teams?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Timelin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u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413000"/>
          <a:ext cx="7920000" cy="4545000"/>
        </p:xfrm>
        <a:graphic>
          <a:graphicData uri="http://schemas.openxmlformats.org/drawingml/2006/table">
            <a:tbl>
              <a:tblPr/>
              <a:tblGrid>
                <a:gridCol w="5101920"/>
                <a:gridCol w="2818080"/>
              </a:tblGrid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d9d9d9"/>
                          </a:solidFill>
                          <a:latin typeface="Arial"/>
                        </a:rPr>
                        <a:t>DU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ing opportunities advertis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 commencing </a:t>
                      </a:r>
                      <a:br>
                        <a:rPr sz="1600"/>
                      </a:b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Octo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s  close </a:t>
                      </a:r>
                      <a:r>
                        <a:rPr b="0" i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mailed to Tasmania and NSW Business Managers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Novem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nts  notified of out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ecem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Decem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on e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2011 or January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comm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nuary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vis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or April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of final Project Reports (includes acquittal statement of project expenditure and post project measurement of learner and project outcom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June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324000" y="692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Information sessio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628640"/>
          <a:ext cx="2663640" cy="4145040"/>
        </p:xfrm>
        <a:graphic>
          <a:graphicData uri="http://schemas.openxmlformats.org/drawingml/2006/table">
            <a:tbl>
              <a:tblPr/>
              <a:tblGrid>
                <a:gridCol w="1170000"/>
                <a:gridCol w="1493640"/>
              </a:tblGrid>
              <a:tr h="4874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’S INFO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TON, 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SDALE, 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BOURNE, V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UNGA, 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BART, 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716360" y="1628640"/>
          <a:ext cx="2592360" cy="1905120"/>
        </p:xfrm>
        <a:graphic>
          <a:graphicData uri="http://schemas.openxmlformats.org/drawingml/2006/table">
            <a:tbl>
              <a:tblPr/>
              <a:tblGrid>
                <a:gridCol w="1139760"/>
                <a:gridCol w="1452600"/>
              </a:tblGrid>
              <a:tr h="487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W’S INFO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10"/>
          <p:cNvSpPr/>
          <p:nvPr/>
        </p:nvSpPr>
        <p:spPr>
          <a:xfrm>
            <a:off x="5302080" y="38606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add NSW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6600" spc="-1" strike="noStrike">
                <a:solidFill>
                  <a:srgbClr val="558ed5"/>
                </a:solidFill>
                <a:latin typeface="Arial"/>
                <a:ea typeface="Arial"/>
              </a:rPr>
              <a:t>Q&amp;A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Tasmanian and NSW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0920" y="2420640"/>
            <a:ext cx="7561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ona Husk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BN National Business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add NSW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Where should be put roles, responsibilities and support and are we clear on what these are </a:t>
            </a:r>
            <a:r>
              <a:rPr b="0" lang="en-AU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eloise.rushton\Desktop\fiona march10 small.jpg"/>
          <p:cNvPicPr/>
          <p:nvPr/>
        </p:nvPicPr>
        <p:blipFill>
          <a:blip r:embed="rId1"/>
          <a:stretch/>
        </p:blipFill>
        <p:spPr>
          <a:xfrm>
            <a:off x="1692360" y="2349360"/>
            <a:ext cx="6890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71280" y="620280"/>
            <a:ext cx="309564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558ed5"/>
                </a:solidFill>
                <a:latin typeface="Arial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097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AS will manage projects 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SW will manage projects 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Q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4500720" y="1663560"/>
            <a:ext cx="4321080" cy="40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558ed5"/>
                </a:solidFill>
                <a:latin typeface="Arial"/>
              </a:rPr>
              <a:t>The National VET E-learn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1844280"/>
            <a:ext cx="76327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898989"/>
                </a:solidFill>
                <a:latin typeface="Arial"/>
              </a:rPr>
              <a:t>The </a:t>
            </a:r>
            <a:r>
              <a:rPr b="0" i="1" lang="en-AU" sz="1800" spc="-1" strike="noStrike">
                <a:solidFill>
                  <a:srgbClr val="898989"/>
                </a:solidFill>
                <a:latin typeface="Arial"/>
              </a:rPr>
              <a:t>National Broadband Network (NBN) E-learning Programs</a:t>
            </a:r>
            <a:r>
              <a:rPr b="0" lang="en-AU" sz="1800" spc="-1" strike="noStrike">
                <a:solidFill>
                  <a:srgbClr val="898989"/>
                </a:solidFill>
                <a:latin typeface="Arial"/>
              </a:rPr>
              <a:t> forms part of the National VET E-learning Strategy (VEL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AU" sz="1800" spc="-1" strike="noStrike">
                <a:solidFill>
                  <a:srgbClr val="558ed5"/>
                </a:solidFill>
                <a:latin typeface="Arial"/>
              </a:rPr>
              <a:t>Vision: A globally competitive Australian training system underpinned by world class E-learning infrastructure and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898989"/>
                </a:solidFill>
                <a:latin typeface="Arial"/>
              </a:rPr>
              <a:t>Goal 1: Develop and utilise E-learning strategies to maximise the benefits of the national investment in broad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AU" sz="1800" spc="-1" strike="noStrike">
                <a:solidFill>
                  <a:srgbClr val="558ed5"/>
                </a:solidFill>
                <a:latin typeface="Arial"/>
              </a:rPr>
              <a:t>Strategic Objective: Demonstrate the power of broadband to enhance outcomes for learners, and promote growth in broadband-based training as the NBN roll­out proc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04920" y="2276280"/>
            <a:ext cx="85341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provide opportunities through targeted funding to create innovative approaches for using the N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skills to improve Australia’s workforce participation and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32400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AU" sz="3100" spc="-1" strike="noStrike">
                <a:solidFill>
                  <a:srgbClr val="558ed5"/>
                </a:solidFill>
                <a:latin typeface="Arial"/>
                <a:ea typeface="Arial"/>
              </a:rPr>
              <a:t>NBN E-learning Programs Business Activity</a:t>
            </a:r>
            <a:r>
              <a:rPr b="1" lang="en-AU" sz="3100" spc="-1" strike="noStrike">
                <a:solidFill>
                  <a:srgbClr val="558ed5"/>
                </a:solidFill>
                <a:latin typeface="Arial"/>
                <a:ea typeface="Arial"/>
              </a:rPr>
              <a:t> wi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0000" y="1483920"/>
            <a:ext cx="85345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$25,000 to $50,000 (plus GST) for projects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run from January to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must focus on improved learner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a minimum of 10 learners, with larger numbers of learners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must use NBN pilot sites (Stag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can be across state bor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should consist of recognised training which may inclu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Industry recognised competencies*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nd/o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ly recognised units of compe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*Applicants will need to provide evidence of the acceptance and relevance of Industry Based Competencies that are not on the national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What you need to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0000" y="1483920"/>
            <a:ext cx="85345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m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trial innovative  programs  using high capacity connection, for example: telepresence, simulated learning, game-based learning, e-tutors, learner analytics and videostreaming solutions,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facilitate VET programs using broadband-based information technology to improve training access and outcomes for learners,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prepare organisational readiness models for delivering training and assessment services for the NBN, for example organisational capability, enabling connectivity to the NB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Scop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0000" y="1483920"/>
            <a:ext cx="8534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mproved access and skills attainment for learners through broadband-based training program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of models using broadband/high bandwidth based VET delivery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he growth and enhancement of partnerships to deliver new training solutions using the NBN for learners and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Outcom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0000" y="1483920"/>
            <a:ext cx="8534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, Community Groups and Registered Training Organis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proposals should include an RTO partner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ny partner organisation may have the role of Lead Agent, taking responsibility for accountability for funds, effective management of the project, reporting and delivery of outcomes.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ead Agents must be legal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558ed5"/>
                </a:solidFill>
                <a:latin typeface="Arial"/>
                <a:ea typeface="Arial"/>
              </a:rPr>
              <a:t>Eligibility to appl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1:20:50Z</dcterms:created>
  <dc:creator>andrea.wallace</dc:creator>
  <dc:description/>
  <dc:language>en-US</dc:language>
  <cp:lastModifiedBy>Fiona</cp:lastModifiedBy>
  <dcterms:modified xsi:type="dcterms:W3CDTF">2011-10-12T05:05:52Z</dcterms:modified>
  <cp:revision>12</cp:revision>
  <dc:subject/>
  <dc:title>Slide 1</dc:title>
</cp:coreProperties>
</file>